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4D9-1C27-49F0-94D0-F522566A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6641-A33B-4965-B495-0DFACBC0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8754-90ED-4872-8015-09AAC74F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5541-562C-4EFB-AF83-9FA6639E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B79F-9C5E-4E79-8E1B-A729BB6F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8336-3EB5-498A-B1BE-CB596875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F2AF-93DF-4D48-B043-090CC6C4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C29C-FCA5-466D-BD0C-3DBA8ECE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3C47-70A1-4855-A46B-45552132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EEF4-5DC8-4DD4-8817-809D266D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337F-20B6-425D-94B4-2D80F044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C842-3B6C-4E7F-A249-BA4E1CE3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BE4B-FAC0-4878-9404-30C8E178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5696-B41D-4096-A9B4-D2F71FEE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12C4-C143-4BF2-B146-08D845E4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6516-6A1E-4F78-A57E-38CD08BC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5513-E2F5-48A0-96D3-28C421DC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DA58-4DE2-485C-93C3-958DCEAE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0EF9-82C0-4EE1-A09A-90502B8B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CB4D-2955-4E5C-8782-519E33A1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891E-938E-4B58-BE09-D773D08F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2C60-1168-4DA2-86B9-B24BB7F7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40D4-EB0D-4A1C-ADCA-E4A02D4C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2BDA-2F8B-4B00-B4B3-1C971EDB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03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fb18"/>
                    </a:gs>
                    <a:gs pos="100000">
                      <a:srgbClr val="00603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7fb18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7fb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A320-E14F-4BF6-99C4-5544F7976FE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03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00603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7fb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7fb1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E264-03E2-4C17-9ADF-C55944AFBA8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hyperlink" Target="http://web.mit.edu/invent/iow/judson.html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 rot="798600">
            <a:off x="2133360" y="456840"/>
            <a:ext cx="26733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07fb18"/>
                    </a:gs>
                    <a:gs pos="100000">
                      <a:srgbClr val="ff33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255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07fb18"/>
                  </a:gs>
                  <a:gs pos="100000">
                    <a:srgbClr val="ff33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0" name=""/>
          <p:cNvSpPr txBox="1"/>
          <p:nvPr/>
        </p:nvSpPr>
        <p:spPr>
          <a:xfrm rot="20910600">
            <a:off x="685800" y="2514240"/>
            <a:ext cx="7108920" cy="20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efe0e"/>
                    </a:gs>
                    <a:gs pos="100000">
                      <a:srgbClr val="753bc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Zipper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efe0e"/>
                  </a:gs>
                  <a:gs pos="100000">
                    <a:srgbClr val="753bcb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1" name=""/>
          <p:cNvSpPr/>
          <p:nvPr/>
        </p:nvSpPr>
        <p:spPr>
          <a:xfrm>
            <a:off x="5867280" y="5257800"/>
            <a:ext cx="28958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Jenn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9/27/1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Period 7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Computer # 8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5638680"/>
            <a:ext cx="49528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 Black"/>
              </a:rPr>
              <a:t>Music; Free Play Music, </a:t>
            </a:r>
            <a:r>
              <a:rPr b="0" lang="en-US" sz="1800" spc="-1" strike="noStrike" u="sng">
                <a:solidFill>
                  <a:srgbClr val="00ff00"/>
                </a:solidFill>
                <a:uFillTx/>
                <a:latin typeface="Arial Black"/>
              </a:rPr>
              <a:t>Chicago</a:t>
            </a:r>
            <a:r>
              <a:rPr b="0" lang="en-US" sz="1800" spc="-1" strike="noStrike">
                <a:solidFill>
                  <a:srgbClr val="00ff00"/>
                </a:solidFill>
                <a:latin typeface="Arial Black"/>
              </a:rPr>
              <a:t> </a:t>
            </a:r>
            <a:r>
              <a:rPr b="0" lang="en-US" sz="1800" spc="-1" strike="noStrike" u="sng">
                <a:solidFill>
                  <a:srgbClr val="00ff00"/>
                </a:solidFill>
                <a:uFillTx/>
                <a:latin typeface="Arial Black"/>
              </a:rPr>
              <a:t>Blues</a:t>
            </a:r>
            <a:r>
              <a:rPr b="0" lang="en-US" sz="1800" spc="-1" strike="noStrike">
                <a:solidFill>
                  <a:srgbClr val="00ff00"/>
                </a:solidFill>
                <a:latin typeface="Arial Black"/>
              </a:rPr>
              <a:t>, 10/4/10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www.freeplaymusic.com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800600" y="60199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6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Invention: The Zipp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The first name of the zipper was the clasp-lock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They were found on almost every piece of clothing in the 1920’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The first clasp-locker got jammed very ofte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Fashion people renamed the clasp-locker the zipp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It is one of the most common thing to find on cloth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Inventor: Whitcomb Juds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 Black"/>
              </a:rPr>
              <a:t>Whitcomb Entered the clasp-locker in state fair but no one car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Black"/>
              </a:rPr>
              <a:t>He was already a successful inventor in the 19</a:t>
            </a:r>
            <a:r>
              <a:rPr b="0" lang="en-US" sz="3200" spc="-1" strike="noStrike" baseline="30000">
                <a:solidFill>
                  <a:srgbClr val="00ff00"/>
                </a:solidFill>
                <a:latin typeface="Arial Black"/>
              </a:rPr>
              <a:t>th</a:t>
            </a:r>
            <a:r>
              <a:rPr b="0" lang="en-US" sz="3200" spc="-1" strike="noStrike">
                <a:solidFill>
                  <a:srgbClr val="00ff00"/>
                </a:solidFill>
                <a:latin typeface="Arial Black"/>
              </a:rPr>
              <a:t> centur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Black"/>
              </a:rPr>
              <a:t>He died in 1909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Black"/>
              </a:rPr>
              <a:t>Whitcomb never got to see how famous the zipper becam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032520" y="0"/>
            <a:ext cx="3111480" cy="45720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5105520" y="3505320"/>
            <a:ext cx="1885680" cy="29145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Judson"/>
          <p:cNvPicPr/>
          <p:nvPr/>
        </p:nvPicPr>
        <p:blipFill>
          <a:blip r:embed="rId3"/>
          <a:srcRect l="22394" t="0" r="20892" b="0"/>
          <a:stretch/>
        </p:blipFill>
        <p:spPr>
          <a:xfrm>
            <a:off x="838080" y="228600"/>
            <a:ext cx="3429000" cy="25146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Judson"/>
          <p:cNvPicPr/>
          <p:nvPr/>
        </p:nvPicPr>
        <p:blipFill>
          <a:blip r:embed="rId4"/>
          <a:srcRect l="79328" t="0" r="0" b="0"/>
          <a:stretch/>
        </p:blipFill>
        <p:spPr>
          <a:xfrm>
            <a:off x="1905120" y="3124080"/>
            <a:ext cx="1523880" cy="23623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0" y="6078600"/>
            <a:ext cx="5715000" cy="12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 Black"/>
              </a:rPr>
              <a:t>LEMELSON MIT, The Zipper 9/29/10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http://web.mit.edu/invent/iow/judson.htm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38Z</dcterms:created>
  <dc:creator>install</dc:creator>
  <dc:description/>
  <dc:language>en-US</dc:language>
  <cp:lastModifiedBy>install</cp:lastModifiedBy>
  <dcterms:modified xsi:type="dcterms:W3CDTF">2010-10-14T17:29:31Z</dcterms:modified>
  <cp:revision>14</cp:revision>
  <dc:subject/>
  <dc:title>Slide 1</dc:title>
</cp:coreProperties>
</file>